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44E9-9A79-4C3A-B3DC-540568DF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9872-37B9-483B-8C60-C9BB0AE3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34D-0F91-4A44-99D9-383D81DD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6CD-11C0-4082-B97D-3AC5911E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E69-7E19-48C7-AFF6-8468E979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A9A-C9F0-434B-834E-A3BEBD1E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033-ADEE-442B-9CBC-4BFA9747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DE6-8E93-4CE1-9F96-DA3946A4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16F-9BBF-4581-A430-860C6644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74F-5A8E-4EA9-BA94-80D49FD0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BE5-9415-4833-AA7C-BC2CB10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1D0-0132-473E-B7FB-25CFE85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86D-A56C-4C52-A403-CB22ECD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BD2-6C65-4B9B-B5D4-6D21985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9C67-6533-48B5-A68C-11B56560A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risty Latsou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hristy Latsou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hristy Latsouna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hristy Latsoun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hristy Latso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wee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k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7913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muy bien. Que es el terea ? . tienes  tus libros de matemátic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8" descr="Photo on 2011-10-21 at 13.46.jpg"/>
          <p:cNvPicPr/>
          <p:nvPr/>
        </p:nvPicPr>
        <p:blipFill>
          <a:blip r:embed="rId1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omo estás?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9" descr="Photo on 2011-10-21 at 13.53 #2.jpg"/>
          <p:cNvPicPr/>
          <p:nvPr/>
        </p:nvPicPr>
        <p:blipFill>
          <a:blip r:embed="rId2"/>
          <a:stretch/>
        </p:blipFill>
        <p:spPr>
          <a:xfrm>
            <a:off x="2060640" y="533412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2" descr="Photo on 2011-10-21 at 13.46.jpg"/>
          <p:cNvPicPr/>
          <p:nvPr/>
        </p:nvPicPr>
        <p:blipFill>
          <a:blip r:embed="rId3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765360" y="64008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28600" y="3733920"/>
            <a:ext cx="16002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bre es christy. Tengo 14 años. Estoy feliz y burbujée. Vivo en New york. Amo  cantar y bail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1" descr="551524_497579363608127_481304548_n"/>
          <p:cNvPicPr/>
          <p:nvPr/>
        </p:nvPicPr>
        <p:blipFill>
          <a:blip r:embed="rId4"/>
          <a:stretch/>
        </p:blipFill>
        <p:spPr>
          <a:xfrm>
            <a:off x="152280" y="838080"/>
            <a:ext cx="1524240" cy="137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ANd9GcTV69yPXS68d1YRSpVN2tZd0v6c-sdrpaIslawEtFftBzY89Reg"/>
          <p:cNvPicPr/>
          <p:nvPr/>
        </p:nvPicPr>
        <p:blipFill>
          <a:blip r:embed="rId5"/>
          <a:stretch/>
        </p:blipFill>
        <p:spPr>
          <a:xfrm>
            <a:off x="152280" y="5257800"/>
            <a:ext cx="533520" cy="422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ANd9GcRa8e_m7-RDFwIelu_UhP5Wd4rSItYO85G1LcA3cxMTl0Yylc8wWQ"/>
          <p:cNvPicPr/>
          <p:nvPr/>
        </p:nvPicPr>
        <p:blipFill>
          <a:blip r:embed="rId6"/>
          <a:stretch/>
        </p:blipFill>
        <p:spPr>
          <a:xfrm>
            <a:off x="838080" y="52578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ANd9GcQf5mJR3sD-OlOaCkm8vTiLZ_GKFKWeC4aJTgmChLwod8AMhfy6"/>
          <p:cNvPicPr/>
          <p:nvPr/>
        </p:nvPicPr>
        <p:blipFill>
          <a:blip r:embed="rId7"/>
          <a:stretch/>
        </p:blipFill>
        <p:spPr>
          <a:xfrm>
            <a:off x="1371600" y="5257800"/>
            <a:ext cx="4618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9" descr="ANd9GcS_eJE2CB7yF7ZqHgF62vmxxKTULrOp3Qq0TNTLeXZv4X7MliEJ6Q"/>
          <p:cNvPicPr/>
          <p:nvPr/>
        </p:nvPicPr>
        <p:blipFill>
          <a:blip r:embed="rId8"/>
          <a:stretch/>
        </p:blipFill>
        <p:spPr>
          <a:xfrm>
            <a:off x="2133720" y="32004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2" descr="ANd9GcQp2xjpl3aCtxUS7FZbN3aLGN2HFkYFXIUUglxQsvCBBeoEZy20"/>
          <p:cNvPicPr/>
          <p:nvPr/>
        </p:nvPicPr>
        <p:blipFill>
          <a:blip r:embed="rId9"/>
          <a:stretch/>
        </p:blipFill>
        <p:spPr>
          <a:xfrm>
            <a:off x="838080" y="594360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ANd9GcQf5mJR3sD-OlOaCkm8vTiLZ_GKFKWeC4aJTgmChLwod8AMhfy6"/>
          <p:cNvPicPr/>
          <p:nvPr/>
        </p:nvPicPr>
        <p:blipFill>
          <a:blip r:embed="rId10"/>
          <a:stretch/>
        </p:blipFill>
        <p:spPr>
          <a:xfrm>
            <a:off x="2209680" y="2590920"/>
            <a:ext cx="46224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9" descr="ANd9GcS_eJE2CB7yF7ZqHgF62vmxxKTULrOp3Qq0TNTLeXZv4X7MliEJ6Q"/>
          <p:cNvPicPr/>
          <p:nvPr/>
        </p:nvPicPr>
        <p:blipFill>
          <a:blip r:embed="rId11"/>
          <a:stretch/>
        </p:blipFill>
        <p:spPr>
          <a:xfrm>
            <a:off x="152280" y="59436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7" descr="ANd9GcQf5mJR3sD-OlOaCkm8vTiLZ_GKFKWeC4aJTgmChLwod8AMhfy6"/>
          <p:cNvPicPr/>
          <p:nvPr/>
        </p:nvPicPr>
        <p:blipFill>
          <a:blip r:embed="rId12"/>
          <a:stretch/>
        </p:blipFill>
        <p:spPr>
          <a:xfrm>
            <a:off x="2133720" y="3733920"/>
            <a:ext cx="4618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3:44:25Z</dcterms:created>
  <dc:creator>FriscoISD</dc:creator>
  <dc:description/>
  <dc:language>en-US</dc:language>
  <cp:lastModifiedBy>User</cp:lastModifiedBy>
  <dcterms:modified xsi:type="dcterms:W3CDTF">2012-12-04T14:06:34Z</dcterms:modified>
  <cp:revision>103</cp:revision>
  <dc:subject/>
  <dc:title>Profile</dc:title>
</cp:coreProperties>
</file>